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161-6D24-4444-BAFB-2FA2AF97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6DA-97D7-4F78-8C3F-9C0EBEDB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662-42EB-4FC3-9FD0-007F5AFD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A1D-B99A-40C8-B02D-69EF20FD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03D-0A0C-408B-A677-316299A2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CCC-C4B3-4558-A337-DF4F85AB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9D1-3044-41ED-B3F9-06DD7522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4C0-14B2-4776-8847-3FC978EA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366-C5B6-4839-BE1E-8F6C129A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977-34AE-456C-939B-E2A06770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647-FDAE-4FAB-B831-2B628A7C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165-DD54-4453-8D43-24A61A6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8795-EC18-4EB1-B8BE-BD9CA1950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 740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ments to ESIID Ex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1F6-F14E-4C2D-950F-13B01929E1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22096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 is a system change request asking for enhancements to the ESIID Extract created by the implementation of SCR 7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C85-789A-4B5A-8F57-4531B762A9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447920"/>
            <a:ext cx="8229600" cy="48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ized by DEWG on August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ted by DEWG on August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ized 1.2 by PRS on August 27   (Rank = 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by TAC on Septemb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reached important deliverable decisions at October 5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to refine detail requirements on Novemb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to beg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rter 2005 (after elements of Enterprise Data Warehouse development are in pl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to occur 3 to 6 months after development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F8B-D88B-4326-BE82-5DC1693207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447920"/>
            <a:ext cx="838188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mmary of Market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usage to CRs for backdated LSE relationship changes (ranked “Urgent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file load order number by MP (ranked “High” by DEWG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dit capability to confirm MP database accuracy (ranked “Medium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atic web services interface to extract all data for ESIIDs at any time (ranked “Medium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to provide link back to source of change (i.e. FasTrak) (ranked “Medium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25B-3CEB-4EF9-93D0-1DF15F392C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447920"/>
            <a:ext cx="838188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nal Market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programmatic web services interface that allows for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diting capability (both detail transactions and table cou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est full extracts for a specified date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backdated LSE u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unique file load order number by MP in ERCOT Project 40007 (priority 1.1, rank 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rrent extracts will continue to be posted to 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ll database refresh will not be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350-1EB8-4F31-8120-952B709D7C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0-07T22:11:13Z</dcterms:modified>
  <cp:revision>450</cp:revision>
  <dc:subject/>
  <dc:title>PowerPoint Presentation</dc:title>
</cp:coreProperties>
</file>